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13.png" ContentType="image/pn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DDB-91CA-4C0F-80A3-CB17147C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669-D976-4EC3-B8E0-B22FF9E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DDF-F8F5-4CAC-A911-BD7CA178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DEA-9CD2-4DD2-A233-C1B9F2B3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248-B909-4C16-A814-AD70D8C7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A00-5ADD-47E2-A39D-D7CB6A95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6DB7-DDC3-4C3D-8DAE-9451B28E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D087-C6DA-49DE-A95C-74962DA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1CF7-7BA6-4D7B-A949-57B36DC6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FAC0-7BF6-43D3-B50C-4734C47B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5AED-C7F6-44C4-8C4B-43200AE2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5A4-124C-4A93-A915-66B1C305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EDC6-1FC0-4A63-B146-E7BF7E3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50A6-F3C7-4105-9359-2B53B882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46F-F779-4437-8CAA-22B2CE9A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AB0-75A6-451A-950C-15DDC594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C72C-3998-4614-B8DD-171A4D19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F06-8175-4120-8073-2A962AF4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764-D1AF-45DB-822A-143C2C4D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6D7-3662-4CAD-8890-D24A27FD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084-D41E-4404-AA80-00AD14C9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CB3-D2B3-459C-97EF-0A422E3A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9A4-CEA0-46A2-AA24-85C578AB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B53-EDBA-4709-8117-3681DDC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1E7-3568-42EF-9951-640E0480324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3AD8-2730-4510-8A4D-F23595F1EEE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432160"/>
            <a:ext cx="93949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Динамика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тих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громк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не очень громк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146"/>
          <p:cNvPicPr/>
          <p:nvPr/>
        </p:nvPicPr>
        <p:blipFill>
          <a:blip r:embed="rId1"/>
          <a:stretch/>
        </p:blipFill>
        <p:spPr>
          <a:xfrm>
            <a:off x="7740720" y="765000"/>
            <a:ext cx="11430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769644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8132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Тембр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фортепиано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скрипка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флейта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81320" indent="-481320">
              <a:lnSpc>
                <a:spcPct val="8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труба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813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7" descr="182"/>
          <p:cNvPicPr/>
          <p:nvPr/>
        </p:nvPicPr>
        <p:blipFill>
          <a:blip r:embed="rId1"/>
          <a:stretch/>
        </p:blipFill>
        <p:spPr>
          <a:xfrm>
            <a:off x="6012000" y="3068640"/>
            <a:ext cx="817560" cy="741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179"/>
          <p:cNvPicPr/>
          <p:nvPr/>
        </p:nvPicPr>
        <p:blipFill>
          <a:blip r:embed="rId2"/>
          <a:stretch/>
        </p:blipFill>
        <p:spPr>
          <a:xfrm>
            <a:off x="5003640" y="5157720"/>
            <a:ext cx="857520" cy="1047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110"/>
          <p:cNvPicPr/>
          <p:nvPr/>
        </p:nvPicPr>
        <p:blipFill>
          <a:blip r:embed="rId3"/>
          <a:stretch/>
        </p:blipFill>
        <p:spPr>
          <a:xfrm>
            <a:off x="7812000" y="1844640"/>
            <a:ext cx="763560" cy="1049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LUTPIC"/>
          <p:cNvPicPr/>
          <p:nvPr/>
        </p:nvPicPr>
        <p:blipFill>
          <a:blip r:embed="rId4"/>
          <a:stretch/>
        </p:blipFill>
        <p:spPr>
          <a:xfrm>
            <a:off x="5508720" y="4292640"/>
            <a:ext cx="17636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"/>
          <p:cNvPicPr/>
          <p:nvPr/>
        </p:nvPicPr>
        <p:blipFill>
          <a:blip r:embed="rId1"/>
          <a:srcRect l="0" t="0" r="40" b="-37"/>
          <a:stretch/>
        </p:blipFill>
        <p:spPr>
          <a:xfrm>
            <a:off x="-324000" y="0"/>
            <a:ext cx="10263240" cy="6891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3635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39640" y="1700280"/>
            <a:ext cx="9001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ес,  точно  терем  расписно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иловый,  золотой,  багряны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есёлой,  пёстрою  толпо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Стоит  над  светлою  поляно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Концерт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286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7"/>
          <p:cNvSpPr txBox="1"/>
          <p:nvPr/>
        </p:nvSpPr>
        <p:spPr>
          <a:xfrm>
            <a:off x="1332000" y="404640"/>
            <a:ext cx="720072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Подберите  подходящие 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выразительные  средства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к  музыкальному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произведению,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 </a:t>
            </a: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созвучному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картине  И. Левитана  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«Золотая  осень»  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и  стихотворению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000099"/>
                </a:solidFill>
                <a:latin typeface="Georgia"/>
              </a:rPr>
              <a:t>И. Бунина «Листопад».</a:t>
            </a:r>
            <a:endParaRPr b="1" lang="en-US" sz="4800" spc="1" strike="noStrike">
              <a:ln w="0">
                <a:noFill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0" t="0" r="40" b="-37"/>
          <a:stretch/>
        </p:blipFill>
        <p:spPr>
          <a:xfrm>
            <a:off x="-324000" y="0"/>
            <a:ext cx="1026324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rcRect l="0" t="0" r="40" b="-37"/>
          <a:stretch/>
        </p:blipFill>
        <p:spPr>
          <a:xfrm>
            <a:off x="-324000" y="0"/>
            <a:ext cx="10263240" cy="6891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635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1700280"/>
            <a:ext cx="9468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ес, точно терем расписно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иловый, золотой, багряны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есёлой, пёстрою толпо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Стоит над светлою поляно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rcRect l="0" t="0" r="40" b="-37"/>
          <a:stretch/>
        </p:blipFill>
        <p:spPr>
          <a:xfrm>
            <a:off x="-324000" y="0"/>
            <a:ext cx="10263240" cy="6891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635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836640"/>
            <a:ext cx="9612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Берёзы жёлтою резьбой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Блестят в лазури голубой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Как вышки, ёлочки темнеют,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А между клёнами синею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То там, то здесь в листве сквозно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Просветы в небо, что оконц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0" t="0" r="40" b="-37"/>
          <a:stretch/>
        </p:blipFill>
        <p:spPr>
          <a:xfrm>
            <a:off x="-324000" y="0"/>
            <a:ext cx="10263240" cy="6891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635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34920" y="1584360"/>
            <a:ext cx="9685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Лес пахнет дубом и сосно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За лето высох он от солнца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И Осень тихою вдово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Вступает в пёстрый терем свой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48294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Лад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мажор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минор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1258920" y="189000"/>
            <a:ext cx="755316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Средства  музыкальной</a:t>
            </a:r>
            <a:endParaRPr b="1" lang="en-US" sz="54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ыразительности</a:t>
            </a:r>
            <a:endParaRPr b="1" lang="en-US" sz="5400" spc="1" strike="noStrike">
              <a:ln w="9360">
                <a:solidFill>
                  <a:srgbClr val="3333cc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114" name="Picture 9" descr="SMILE_WTE"/>
          <p:cNvPicPr/>
          <p:nvPr/>
        </p:nvPicPr>
        <p:blipFill>
          <a:blip r:embed="rId1"/>
          <a:stretch/>
        </p:blipFill>
        <p:spPr>
          <a:xfrm>
            <a:off x="5724360" y="37162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FROWN_WTE"/>
          <p:cNvPicPr/>
          <p:nvPr/>
        </p:nvPicPr>
        <p:blipFill>
          <a:blip r:embed="rId2"/>
          <a:stretch/>
        </p:blipFill>
        <p:spPr>
          <a:xfrm>
            <a:off x="5724360" y="5013360"/>
            <a:ext cx="1071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Мелодия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Monotype Corsiva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поступенна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Monotype Corsiva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скачкообразна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69080" indent="-46908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Monotype Corsiva"/>
              <a:buChar char="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волнообразная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69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1" descr="091"/>
          <p:cNvPicPr/>
          <p:nvPr/>
        </p:nvPicPr>
        <p:blipFill>
          <a:blip r:embed="rId1"/>
          <a:stretch/>
        </p:blipFill>
        <p:spPr>
          <a:xfrm>
            <a:off x="7740720" y="1125360"/>
            <a:ext cx="842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66"/>
                </a:solidFill>
                <a:latin typeface="Georgia"/>
              </a:rPr>
              <a:t>Темп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410760" indent="-4107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быстрый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10760" indent="-4107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медленный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10760" indent="-410760"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6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ff"/>
                </a:solidFill>
                <a:latin typeface="Georgia"/>
              </a:rPr>
              <a:t>умеренный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410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41076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9360" y="0"/>
            <a:ext cx="4454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7" descr="069"/>
          <p:cNvPicPr/>
          <p:nvPr/>
        </p:nvPicPr>
        <p:blipFill>
          <a:blip r:embed="rId1"/>
          <a:stretch/>
        </p:blipFill>
        <p:spPr>
          <a:xfrm>
            <a:off x="7380360" y="549360"/>
            <a:ext cx="1071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лецких Е.В.</dc:creator>
  <dc:description/>
  <dc:language>en-US</dc:language>
  <cp:lastModifiedBy>Палецких Елена</cp:lastModifiedBy>
  <dcterms:modified xsi:type="dcterms:W3CDTF">2012-01-02T13:17:26Z</dcterms:modified>
  <cp:revision>58</cp:revision>
  <dc:subject/>
  <dc:title>Тв.задание</dc:title>
</cp:coreProperties>
</file>